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EFB-E031-49CA-B1EA-91B07B97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880-9BDB-41B8-A29C-3C704725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26F-9FDF-4E19-9CFA-6E0C951C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D51-3C69-4A9E-BA8E-133B8C31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BABC-79E0-4A44-8857-D95C39F9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92A1-3A46-4589-BAA7-ABFDD87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2F6F-E272-4143-9E2A-E75AA63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FB78-E8FE-462A-B043-0C414B20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47D6-1D2C-483E-B417-06DE1EFD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5FBF-12AB-4F2B-ABDF-383F4D95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68A6-5C86-4C99-B8CD-44F66FA6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84B-13B9-4DFE-8EC0-6C0BAD84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54B9-6DD5-4AE8-9642-50A925FA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BC94-6232-4D7C-88EA-5369CA8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561B-E122-4A18-85D0-0F47BE47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749A-E3E3-4C20-AFAB-EAC22A2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F41B-1CF4-4A70-ABBC-58579EC4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D03-9077-497A-AE0A-3B9E9481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9C2-6DAB-403B-A160-DA40281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F4C-72B0-47AB-B333-266407E4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D5B-B6D6-4BB5-9ABE-AEEF5039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404-037B-4876-BF0D-4D9A9DF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EBA-4125-4E64-ABF0-C228D52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5CD-C1D3-45A1-86E7-C8196A43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DDDD-DDB7-4B00-BF09-9952B06C92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7C50-6033-4525-A504-D7742FD141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15004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оопсихолог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оект выполнила Давлатова Лолла 9 б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1"/>
          <a:stretch/>
        </p:blipFill>
        <p:spPr>
          <a:xfrm>
            <a:off x="1400040" y="1827360"/>
            <a:ext cx="5257800" cy="3481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0040" y="182736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звестная лично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аик Галстян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всегда чувствовал в себе потребность работать с «живым» материалом, который дает возможность воплощения самых творческих идей. Любовь к природе полностью захватила его. В своей работе Араик Галстян предпочитает заниматься большими проектами: празднованиями, фестивалями, выставками и презентац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4" descr="d2949170188b9fb9b6a9917bc4182dae"/>
          <p:cNvPicPr/>
          <p:nvPr/>
        </p:nvPicPr>
        <p:blipFill>
          <a:blip r:embed="rId1"/>
          <a:stretch/>
        </p:blipFill>
        <p:spPr>
          <a:xfrm>
            <a:off x="5334120" y="182880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собенности професс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лорист — специалист по цветочному оформлению интерьеров, созданию флористических композиций и букет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лорист — это, прежде всего, художник. Он может творить независимо ни от кого и одновременно выполнять работу на зака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ист должен все знать о сортах цветов, сочетаемости их форм и тонов. Должен уметь подобрать композицию под настроение заказчика. Должен учитывать «длительность жизни» бутон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чные качеств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ессия флориста, прежде всего, требует любви к растениям и цветам. Художественные способности, креатив, неограниченная фантазия, чувство стиля — неотъемлемые качества специали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florist"/>
          <p:cNvPicPr/>
          <p:nvPr/>
        </p:nvPicPr>
        <p:blipFill>
          <a:blip r:embed="rId1"/>
          <a:stretch/>
        </p:blipFill>
        <p:spPr>
          <a:xfrm>
            <a:off x="2819520" y="3809880"/>
            <a:ext cx="411480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уч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выучиться на флориста необходимо пройти определенные курсы ( цена от 6000-8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едметы и зарпла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5.000–35.000 руб.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рпла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иология, искусство – предметы, которые надо зн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звестная лично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 из звёзд зоопсихологии — австрийский учёный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рад Лоренц 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03-1989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оопсихолог, лауреат Нобелевской премии 1973 года по физиологии и медицине  за исследования индивидуального и группового поведения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ренцем  написаны замечательные научно-популярные книги: «Кольцо царя Соломона», «Человек находит друга», «Год серого гу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Зоопсихолог"/>
          <p:cNvPicPr/>
          <p:nvPr/>
        </p:nvPicPr>
        <p:blipFill>
          <a:blip r:embed="rId1"/>
          <a:stretch/>
        </p:blipFill>
        <p:spPr>
          <a:xfrm>
            <a:off x="1828800" y="1905120"/>
            <a:ext cx="64008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собенности профессии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оопсихологов не следует путать с кинологами, дрессировщиками и другими специалистами, умеющими управлять поведением животн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 зоопсихологию в первую очередь интересует не поведение как таковое, а психические процессы.  Она изучает, как животное воспринимает мир, как развиваются его память, интеллек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c59a7eaa9e1293c38dd8e81ce8b0bf0"/>
          <p:cNvPicPr/>
          <p:nvPr/>
        </p:nvPicPr>
        <p:blipFill>
          <a:blip r:embed="rId1"/>
          <a:stretch/>
        </p:blipFill>
        <p:spPr>
          <a:xfrm>
            <a:off x="5486400" y="2133720"/>
            <a:ext cx="3387600" cy="2590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собенности професс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оопсихологов интересуют и дикие, и домашние животные, психика которых имеет большие различ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же зоопсихологи исследуют аномалии в поведении животных (страхи, агрессивность, необъяснимое упрямство и пр.). Хороший специалист может выяснить причину и объяснить хозяину, как исправить дело.         Часто странное поведение – это проявление расстройств нервной системы. 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чные качеств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нтерес и любовь к животным, научный склад ум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акже в работе поможет склонность к биологии и исследования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уч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т на зоопсихологов там же, где и на обычных психологов. Направление представлено в следующих вузах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анкт-Петербургский Гуманитарный университет профсоюзов, Российский государственный педагогический университет им. А. И. Герце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анкт-Петербургский государственный университ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едметы и зарпла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5.000–65.000 руб.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рпла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иология, анатомия – предметы, которые надо зн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оопсихологу необходимы познания в области психологии, физиолог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лорис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1370160" y="1808280"/>
            <a:ext cx="5260680" cy="3504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7:07:20Z</dcterms:created>
  <dc:creator>мм</dc:creator>
  <dc:description/>
  <dc:language>en-US</dc:language>
  <cp:lastModifiedBy>lena</cp:lastModifiedBy>
  <dcterms:modified xsi:type="dcterms:W3CDTF">2016-11-02T21:16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